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2072-238B-43C7-9803-B5BDD3D1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47BA-B69D-40B1-B0CF-732BF19E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1E08-8198-4C87-A7BE-BABFCA28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E33D-76E2-4F8F-9202-317AA0D7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8C3D-FA01-45D6-8EF3-83FD478B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B4E0-1D98-4836-84C8-57C5D1D1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4EF7-AE4D-4291-8E91-7A0753A1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A2B6-4B37-4DF3-940D-55C9E112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9A2E-B85B-427B-BB1E-ADAE0091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68D0-063C-4344-919D-BE975D6F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36CA-BB2B-442F-99BD-FEE12B2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F857-AEB9-45AB-94C8-BEF702F4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5074-CA1F-45A9-BF9A-1557F935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86D1-9F1E-4403-80BE-A23EECD3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CDE4-F156-4C7B-85BA-14D472A3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A07B-0FEC-42DB-99CB-25985FDF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6C70-6248-4A47-9561-9EA10370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624D-6166-41FD-A631-4F076A7C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D8E4-A8BA-4C71-AFE8-7AFAEDC3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F384-2766-490A-AFC3-6942F07B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F308-DD7D-48D1-99E7-D79BDD45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4311-F19B-4ED3-A0BC-1E73291F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6D8D-D7B1-4808-9E69-D200155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10E7-53DD-4E75-A988-E727C261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FA97-0CCD-4E1D-9718-01BC08D805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E10E-6352-4F22-8855-AF01B0C747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esd/reserve/images/snakes3.jpg&amp;imgrefurl=http://cakerockstheparty.wordpress.com/category/mur-der/&amp;h=541&amp;w=864&amp;sz=110&amp;hl=en&amp;start=5&amp;tbnid=ZEQ7Vpq6lORQTM:&amp;tbnh=91&amp;tbnw=145&amp;prev=/images%3Fq%3Dsnake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apstadt.org/images/images-12/snakes-schlangen/snakes-schlangen-3g.jpg&amp;imgrefurl=http://www.kapstadt.org/en/south-african-pictures/south-africa-animals/land-animals/snakes/&amp;h=1082&amp;w=1200&amp;sz=121&amp;hl=en&amp;start=20&amp;tbnid=3-j7Ce34-GcwfM:&amp;tbnh=135&amp;tbnw=150&amp;prev=/images%3Fq%3Dsnakes%26gbv%3D2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static.howstuffworks.com/gif/snake-venom.gif&amp;imgrefurl=http://science.howstuffworks.com/snake4.htm&amp;h=370&amp;w=400&amp;sz=30&amp;hl=en&amp;start=37&amp;tbnid=NS9VIEi_Z_hOSM:&amp;tbnh=115&amp;tbnw=124&amp;prev=/images%3Fq%3Dsnakes%26start%3D20%26gbv%3D2%26ndsp%3D20%26hl%3Den%26sa%3D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s.org/wnet/nature/reptiles/images/wallpaper/snakes_small.jpg&amp;imgrefurl=http://www.pbs.org/wnet/nature/reptiles/snakes.html&amp;h=600&amp;w=800&amp;sz=218&amp;hl=en&amp;start=42&amp;tbnid=Zix4uUOsv-_j1M:&amp;tbnh=107&amp;tbnw=143&amp;prev=/images%3Fq%3Dsnakes%26start%3D4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yosemite.ca.us/library/reptiles/images/thumbnail/snakes_40.jpg&amp;imgrefurl=http://www.yosemite.ca.us/library/reptiles/snakes.html&amp;h=433&amp;w=650&amp;sz=64&amp;hl=en&amp;start=74&amp;tbnid=LCMi_pt2XwDLqM:&amp;tbnh=91&amp;tbnw=137&amp;prev=/images%3Fq%3Dsnakes%26start%3D60%26gbv%3D2%26ndsp%3D20%26hl%3Den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nak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OLYVIA VI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1523880"/>
            <a:ext cx="2590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o  you like snakes? Well you can find out  more about them here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312120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ome snakes can hurt people.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kes can use their fangs to hurt  other anim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23878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nakes are very long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kes  can  grow up to 38 ft long.  The longest  snake  is an Anaco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365760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nakes are colorful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kes are many colors like brown, yellow, green, white, and bl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822840"/>
            <a:ext cx="2514600" cy="2263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76640"/>
            <a:ext cx="31240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is is what snakes eat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kes eat rodents, birds, frogs, deer, and rept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581280"/>
            <a:ext cx="2743200" cy="198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3733920"/>
            <a:ext cx="30574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 hope you had fun learning about  snakes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9880" y="3122640"/>
            <a:ext cx="2295720" cy="228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1905120" cy="22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18:52Z</dcterms:modified>
  <cp:revision>5</cp:revision>
  <dc:subject/>
  <dc:title>Animal Name</dc:title>
</cp:coreProperties>
</file>